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2B6-6A31-4071-B18C-88FD307F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F7B-F1C2-4CDC-90EF-2F51A3B2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B10-0087-4AC3-B0C6-EE589019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991-9525-4937-9079-7EB89D02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DB98-E97A-451C-A1A0-BB5BE203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DA8F-14FD-455A-9C98-A9D7728F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E8BE-2555-4FA6-BA9D-428F2889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61C0-5A4D-45A3-881D-D81C7FA6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43F9-9174-495E-9D72-12D6146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1561-6EED-4698-B6A8-E331A0D9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7B44-3151-409E-9A46-1DD732BA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CE9-F4D4-4660-9199-A142E81D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D8EB-49B2-4A3B-8331-0DCBEFAD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B270-8418-4296-8196-1099ECC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987A-C0FC-435E-AF70-0BE1AFCC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4EB5-8A34-42BF-B680-4754DDCF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16B9-F31D-45B4-AD27-8D484488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1E1-EC92-4343-82A6-E873058A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BCD-8E0C-451C-9E9A-3F4C4276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605-3B88-4E7C-8AEF-1706FA51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24E-ADE6-4CC8-A312-2567B4BB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2E2-6D56-4C1F-83DD-183BEAA1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22A-9145-4A3F-B360-A201A61F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D47-EE47-4521-BFB9-FC8A8C3F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1328-C361-4F43-94A4-6988EEE4F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A4C4-1A70-4F5C-A3F7-14A1FA785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Monotype Corsiva"/>
              </a:rPr>
              <a:t>Cercetarea de marketing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Cercetarea de marketing reprezinta principalul mijloc al unui agent economic sau organizatii de a obtine informatii utile in momentul in care trebuie fundamentata strategia de marketing sau elaborat un plan de market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Obiectivul urmarit de firma noastra este acela de a determina cerintele clientilor si de a le satisface la cel mai inalt gr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Monotype Corsiva"/>
              </a:rPr>
              <a:t>Etapele cercetarii de marketing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Definirea obiectivului cercetar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Stabilirea metodei de realizare a cercetari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Elaborarea planului de cercet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Culegerea efectiva a informatiil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Analiza rezultatelor obtinu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Redactarea si prezentarea raportul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68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68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Monotype Corsiva"/>
              </a:rPr>
              <a:t>Metode posibile de cercetare a pietei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Investigarea surselor statisti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Cercetarea direct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Experimentul de marketing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68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68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Monotype Corsiva"/>
              </a:rPr>
              <a:t>Elaborarea chestionarului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Definirea clara a informatiilor ce trebuie obtinute cu ajutorul chestionarulu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Formularea intrebarilor care sa conduca la obtinerea informatiil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Aranjarea intrebarilor intr-o ordine lo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Prestarea chestionarului pe un esantion unic de interlocu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Analiza rezultatelor anchetei pilot din punct de vedere al relevantei informatiilor si a posibilitatilor de tabelare a datel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Definirea chestionarului in functie de rezultatele anchetei pi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68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68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Monotype Corsiva"/>
              </a:rPr>
              <a:t>Intocmirea raportului cuprind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O introducer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Obiectivele cercetar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Metodologia de realizare a cercetari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Rezultatele obtinute in urma enectuarii cercetar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Limitele cercetar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Concluziile si recomandarile rezult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68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68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b7e7ff"/>
                </a:solidFill>
                <a:latin typeface="Monotype Corsiva"/>
              </a:rPr>
              <a:t>Cercetarea a fost realizata de SC.DARIMTURIST.SRL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1:10:17Z</dcterms:created>
  <dc:creator>Alina</dc:creator>
  <dc:description/>
  <dc:language>en-US</dc:language>
  <cp:lastModifiedBy>Alina</cp:lastModifiedBy>
  <dcterms:modified xsi:type="dcterms:W3CDTF">2010-05-20T12:00:19Z</dcterms:modified>
  <cp:revision>3</cp:revision>
  <dc:subject/>
  <dc:title>CERCETARI DE MARKETING</dc:title>
</cp:coreProperties>
</file>